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6B7-42AD-4BC2-904C-F894B28A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3D2-A93F-4BF3-B064-8F82EE0C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36E-2781-44F9-AF80-B88CBDFA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CB2-3306-4C9B-86C2-A387DF8C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88758-5352-417C-B8E5-464E8D5E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EFF6F-3A6E-45FA-ADD2-BA7576D4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849A2-AAA5-4BC9-A14F-636F7CD1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1928C-9606-4D4B-A1E0-5D0C7145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33C93-CC40-4E7A-B2F0-E4BD836B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C814B-28D4-41A0-AA03-3FF0703A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1DC8F-676D-4239-A30C-31A27CE8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3AC-FB6D-4A3D-B401-034B0536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B4086-43DF-4817-A1FE-415B3732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74B24-5C82-4270-BBB8-C91593AE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D90CF-FF75-436B-B780-2F5ABDDD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143E4-D2CD-4959-B3A2-F2E18C56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1BC0C-049F-4E92-AFAF-38A476A8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5BD2A-6B7B-4161-8AA2-0CFE6DE7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65702-FBCB-4DCE-96CD-9798ABBA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DA8A8-5C69-4809-94B3-44351B91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5AD6-E7E1-46D6-B44C-4C396898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D3BC7-DF0B-49F9-8012-5160811F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359-71B3-4491-9803-53D6A9DC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2510C-C8E4-49DF-A647-5AA6A8E1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4935-0453-4F41-B687-3BC318F4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D5703-34C0-42FA-94C5-7864A68E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6D8BA-6E2F-4453-B9C4-C158F4DD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53FF-29DC-46B0-80C2-004CCDEE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DD55-2DFB-406E-A46D-3BE600A5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441A4-9F88-41EE-B760-80F7388B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FE426B-222F-4B15-ABF9-17C711BC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2F4847-3B88-497D-9A12-41EB29F9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AB8D4F-D145-49D5-A1B5-91723C80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582-4348-4B86-BCAE-6F9E30D7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EB11C3-ED0B-4C3C-B3E0-33C64367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3C9CA3-0B00-4C5C-AA2A-A860FA91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5CC76-41EE-4942-A0F2-5709866E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DC097-3950-41DF-A092-2446442D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8ADF3-B664-48CE-B0E4-DAF3EB1E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C30BB9-7492-491B-BC43-6A3DD74F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63E0ED-7926-40FD-AAB8-E4343FA7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B6B89-7AE9-4664-A378-09226F2F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99C295-4E3A-4747-A797-90E98A86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B4E-DD78-451C-AF3F-D45FEF2F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DD1-910F-4CCA-8EFD-3E5E88D1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167-B78F-431F-A20F-845EAF77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48C-FABA-4E75-AD65-8ECA19BB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6E5-5DD9-4BF9-92E7-D9596A8B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D7BC-C1BC-4DD5-B4A5-C3F7F86AC031}" type="slidenum">
              <a:rPr b="0" lang="en-NZ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CBAF-CDA5-41F5-A278-556569A5DEB3}" type="slidenum">
              <a:rPr b="0" lang="en-NZ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7C74-BCD1-455E-9B71-BD467D530BEA}" type="slidenum">
              <a:rPr b="0" lang="en-NZ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A082-257C-4591-8FDE-A39A56D04389}" type="slidenum">
              <a:rPr b="0" lang="en-NZ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171" name="Title 1"/>
          <p:cNvSpPr/>
          <p:nvPr/>
        </p:nvSpPr>
        <p:spPr>
          <a:xfrm>
            <a:off x="457200" y="4286160"/>
            <a:ext cx="83059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Database updates – checks put in place to ensure data qual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Front-End display – whole city or specific areas?  Load-time considerations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Map viewer as separate deliverabl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Open source IDE development – TSQL vs MySQL; Flash vs FlashDevelop – budget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Technical complexity – client technical compete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eHeritage Dunedin is a virtual 3D walkthrough of Dunedin, allowing users to view the city at various stages of its history.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eHeritage Dunedin is a virtual 3D </a:t>
            </a:r>
            <a:r>
              <a:rPr b="0" i="1" lang="en-NZ" sz="2800" spc="-1" strike="noStrike">
                <a:solidFill>
                  <a:srgbClr val="ff0000"/>
                </a:solidFill>
                <a:latin typeface="Constantia"/>
              </a:rPr>
              <a:t>model</a:t>
            </a: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 of Dunedin, allowing users to view the city at various stages of its history.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eHeritage Dunedin is an </a:t>
            </a:r>
            <a:r>
              <a:rPr b="0" i="1" lang="en-NZ" sz="2800" spc="-1" strike="noStrike">
                <a:solidFill>
                  <a:srgbClr val="ff0000"/>
                </a:solidFill>
                <a:latin typeface="Constantia"/>
              </a:rPr>
              <a:t>interactive</a:t>
            </a: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 3D model of Dunedin, allowing </a:t>
            </a:r>
            <a:r>
              <a:rPr b="0" i="1" lang="en-NZ" sz="2800" spc="-1" strike="noStrike">
                <a:solidFill>
                  <a:srgbClr val="ff0000"/>
                </a:solidFill>
                <a:latin typeface="Constantia"/>
              </a:rPr>
              <a:t>museum visitors </a:t>
            </a:r>
            <a:r>
              <a:rPr b="0" i="1" lang="en-NZ" sz="2800" spc="-1" strike="noStrike">
                <a:solidFill>
                  <a:srgbClr val="000000"/>
                </a:solidFill>
                <a:latin typeface="Constantia"/>
              </a:rPr>
              <a:t>to view the city at various stages of its history.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5467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As the bulk of our project is 3D modelling and texturing, which are both time-consuming, manual tasks, we focussed on developing a system that woul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Store resources in such a way that they can easily be accessed for modelling or texturing.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Organize geo-data according to year, including GIS-data, aerial photographs, parcel/building information.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Be scalable, allowing for extra years to be added easily, or extra data to be added to any existing years.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</p:txBody>
      </p:sp>
      <p:pic>
        <p:nvPicPr>
          <p:cNvPr id="17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A significant lack of data:  building heigh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But data being collected over the next few years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So what should we do?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Two op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Populate the system with inaccurate test data.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Use other data to demonstrate the capability of the system, although not within our initial spec.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</p:txBody>
      </p:sp>
      <p:pic>
        <p:nvPicPr>
          <p:cNvPr id="17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Content Placeholder 4" descr="showcase1.jpg"/>
          <p:cNvPicPr/>
          <p:nvPr/>
        </p:nvPicPr>
        <p:blipFill>
          <a:blip r:embed="rId2"/>
          <a:stretch/>
        </p:blipFill>
        <p:spPr>
          <a:xfrm>
            <a:off x="1714680" y="1523880"/>
            <a:ext cx="5715000" cy="45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showcase2.jpg"/>
          <p:cNvPicPr/>
          <p:nvPr/>
        </p:nvPicPr>
        <p:blipFill>
          <a:blip r:embed="rId3"/>
          <a:stretch/>
        </p:blipFill>
        <p:spPr>
          <a:xfrm>
            <a:off x="1719360" y="1528920"/>
            <a:ext cx="57103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"/>
              </a:rPr>
              <a:t>The system shall store data from each year in separate layers, allowing for isolated editing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"/>
              </a:rPr>
              <a:t>The system shall link layers to allow for relationship queri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"/>
              </a:rPr>
              <a:t>The system shall georeference historical town maps to present land parcel data from the DCC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"/>
              </a:rPr>
              <a:t>The system shall plot building footprints over land parcel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"/>
              </a:rPr>
              <a:t>The system shall extrude building footprints to 3D model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"/>
              </a:rPr>
              <a:t>The system shall render 3D buildings using texture map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The system shall catalogue existing resources (photos, articles, etc.) into a datab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The user can navigate the 3D environ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The user can change time perio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The user can interact with 3D environment (additional information about buildings, site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The client can update database as requi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Database (April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The system shall catalogue existing resources (photos, articles, etc.) into a database. 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The client can update database as required.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</p:txBody>
      </p:sp>
      <p:pic>
        <p:nvPicPr>
          <p:cNvPr id="186" name="Title 2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entury"/>
              </a:rPr>
              <a:t>Front-End (April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The user can navigate the 3D environment. 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The user can change time period. 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444d26"/>
                </a:solidFill>
                <a:latin typeface="Century"/>
              </a:rPr>
              <a:t>The user can interact with 3D environment (additional information about buildings, sites).</a:t>
            </a:r>
            <a:endParaRPr b="0" lang="en-US" sz="2400" spc="-1" strike="noStrike">
              <a:solidFill>
                <a:srgbClr val="444d26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2:35:23Z</dcterms:created>
  <dc:creator>moskaac1</dc:creator>
  <dc:description/>
  <dc:language>en-US</dc:language>
  <cp:lastModifiedBy>Default-User</cp:lastModifiedBy>
  <dcterms:modified xsi:type="dcterms:W3CDTF">2010-03-04T20:30:11Z</dcterms:modified>
  <cp:revision>28</cp:revision>
  <dc:subject/>
  <dc:title>eHeritage Dunedin 2nd Iteration Presentation</dc:title>
</cp:coreProperties>
</file>